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680-4577-4D72-B4B5-44D6DFF1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9A5-C5B9-44AF-8966-8CBB5C4E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482-1B62-440F-ACA6-2D1C23D2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408-0AFC-4244-B271-2727F469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E3C1-23CF-42D4-A26C-B61488E0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0083-A369-4D9E-BED4-BA6CA913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48A0-3C9B-47F1-A861-0396FE6F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76D7-814B-40EA-8E51-DE67E126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B9E8-E2AB-4ECF-AE3B-72E030E8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8AF8-FD07-40BB-8810-7EB458DC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4EC3-E8B9-4EB0-A8AC-1A175B93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FEF9-9160-4DA9-9F06-7A8284B3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121E-FB92-4725-BEBA-8BFAE57F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1D5F-2041-417A-B531-03A723CA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3443-9D37-45DA-A6F3-1E2B4EF9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2D4C-35D4-4FDB-890F-654EF425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8E64-EC93-4560-965F-47915F40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BC4DA-BEA8-48FC-A37A-C250D9D5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0CA3F-282C-47AD-97C8-F7CB6DF6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83924-0598-4F91-9C99-F68FBB27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64A7F-393A-4ED8-A003-E4129F44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563A2-A137-42C8-B653-539939E5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1E1-8624-4962-8881-B4EAEBEF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F4886-1A57-4235-B633-D3172AEA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C26CF-09F5-4C9C-B950-4F3FEEBD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A06A1-8125-478D-B2E7-274684FD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6A1DB-6F4E-4E2A-8585-A5B0A187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C6C39-98E6-440D-8A9C-01392082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339FD-481B-42DE-9583-3C8E2EC7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48CED-D8AA-4575-A883-7A179051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72054-93EF-4773-881B-3B3E90F3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33E68-AC95-46D4-90A5-4EC373BE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6B7E-4FEB-4D9C-B41E-E1406E4E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2B1-49E9-4D6B-AB1D-1115FF19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23CA1-F7D4-4CBE-BD49-DB2A7A9F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C2E70-02B9-43D5-A0C8-A0785A0B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61901-C0CD-4CA4-8A27-453336EE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E17D0-5367-4A45-A15F-431F3829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83D26-6254-4A2C-A937-9CC91056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63A4B-29ED-47B5-86BF-C0D2F685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DA697-A9D8-48E3-9A13-45B3CAC6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02828-41DC-4690-99E2-F213339B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CBC2D-917D-4CC5-81DE-B19263ED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6C9CD-2637-4D26-9E69-527C0A53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2C4-723A-494E-97AA-325FCCBB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095AF-CB9A-4E90-9490-4E0F92A4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B9C90-368D-4D31-8E02-DBF589F3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FFC38-9877-4D6E-B9F5-800FE0C3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19655-F8E5-43A4-ABE9-F0B645D1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7A7601-1F1E-4D19-A63C-13307B82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DEC94-ACE4-49B1-AD95-002B6C37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C058F-05FF-45FD-85DE-4775439A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7B35E9-D3B9-44C9-BD36-0F518CD0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BCDDC-A731-4FAA-AFAA-6A67AD86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EA8C0-5567-4460-B336-81F90D29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6F9-FCCA-4A4C-AF01-578F8E5F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FCAC7-C3A8-49CF-AE4D-AB32E0CB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4960DA-C957-4225-8192-25552C35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8F88C-5974-42B0-AD07-09F71CB1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0516B-B733-4ECB-960D-1236C68A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6AC43-F4C4-412D-87CC-DFB50BE0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EB3923-DFFD-425A-9E9F-5552F4E7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E105B0-5D92-479C-A8EB-E10E0F24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425D2-42CE-451F-9811-09F8C418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A5017-947D-415C-8115-4E7E3124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A83E6-AA38-4AA5-B863-99757724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336-1AE3-43C9-A872-B7E26572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F1DEE7-0BE3-4479-9DD3-266D149A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3E515-4138-4D07-8569-621647F8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67AB23-D548-4380-BAC5-45A17848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741AC8-AA96-4F4A-B5DB-4B984B6E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6EC14B-4756-47C5-B5CA-ECA9B61C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9B9F8-40EF-40C8-8190-FFFF93C9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82E99-1770-413F-8A34-761E8FB4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2F9B83-FBD2-4266-84AD-32700A12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B8FC6-7EF1-4BEC-91BC-A76EE2EC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EDF9D-67D9-444F-9280-58E027C6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12E-010B-4C8D-8CEC-AFEF9333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F70F12-E709-4533-B385-79EA9DAC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CB0EF0-A55B-46C1-B5FB-CF5AD6B5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0915E2-CB1A-4973-A58F-4497B613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A81E06-09C2-4B1A-99E1-1D8427E7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15903-93F9-48EB-89B6-1123981C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133-549E-4A3B-8F2C-CF9DD0EA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0A60-F4A0-4618-9036-90D9D40402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2C8A-7395-4DF7-8880-C3CDECD7B83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48FC-6175-4E8F-9858-A794B6A4F0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5f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f5f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ef5f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f5f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D7EB-965C-4645-B379-6DA0BFC186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4FA0-F3F4-46D1-AD4C-16A7DFC385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7460-EA37-475B-B187-085790D3AB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aaba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0F4B-45EC-46FB-9F9B-62C5310891A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31560" y="48690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Century Schoolbook"/>
              </a:rPr>
              <a:t>МБОУ Тюльковская  СОШ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Рисунок 3" descr=""/>
          <p:cNvPicPr/>
          <p:nvPr/>
        </p:nvPicPr>
        <p:blipFill>
          <a:blip r:embed="rId1"/>
          <a:stretch/>
        </p:blipFill>
        <p:spPr>
          <a:xfrm>
            <a:off x="2195640" y="809640"/>
            <a:ext cx="61833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3657600" cy="4873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36576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2276280"/>
            <a:ext cx="7467840" cy="11430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46464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ЛАБОРАТОРИЯ </a:t>
            </a:r>
            <a:endParaRPr b="0" lang="en-US" sz="36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ДЕЛИРОВАНИЕ </a:t>
            </a: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</a:t>
            </a:r>
            <a:r>
              <a:rPr b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534960" y="1600200"/>
            <a:ext cx="7310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10920" y="765000"/>
            <a:ext cx="5526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200" spc="-1" strike="noStrike">
              <a:solidFill>
                <a:srgbClr val="0070c0"/>
              </a:solidFill>
              <a:latin typeface="Arial"/>
              <a:ea typeface="Arial"/>
            </a:endParaRPr>
          </a:p>
        </p:txBody>
      </p:sp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762120" y="404640"/>
            <a:ext cx="7619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209600" y="2046240"/>
            <a:ext cx="59626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      </a:t>
            </a:r>
            <a:r>
              <a:rPr b="0" lang="ru-RU" sz="5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ОЛОС ПШЕНИЦЫ</a:t>
            </a:r>
            <a:endParaRPr b="0" lang="en-US" sz="54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144440" y="1600200"/>
            <a:ext cx="6093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941400" y="1600200"/>
            <a:ext cx="64990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Schoolboo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890640" y="1600200"/>
            <a:ext cx="66006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МОДЕЛИРОВАНИЕ КОЛОСКА</a:t>
            </a:r>
            <a:endParaRPr b="0" lang="en-US" sz="4000" spc="-1" strike="noStrike">
              <a:solidFill>
                <a:srgbClr val="464646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entury Schoolbook"/>
              </a:rPr>
              <a:t>МОДЕЛЬ</a:t>
            </a:r>
            <a:r>
              <a:rPr b="0" lang="ru-RU" sz="7200" spc="-1" strike="noStrike">
                <a:solidFill>
                  <a:srgbClr val="000000"/>
                </a:solidFill>
                <a:latin typeface="Century Schoolbook"/>
              </a:rPr>
              <a:t> –это образ  чего -либо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rdmen &amp; Ansty</dc:creator>
  <dc:description/>
  <dc:language>en-US</dc:language>
  <cp:lastModifiedBy>Кабинет 1-10</cp:lastModifiedBy>
  <dcterms:modified xsi:type="dcterms:W3CDTF">2022-10-25T05:29:54Z</dcterms:modified>
  <cp:revision>70</cp:revision>
  <dc:subject/>
  <dc:title>Поговорим о гигиене</dc:title>
</cp:coreProperties>
</file>