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7252-B1F0-4FB1-AAB6-321729D3DF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7B74C-E41E-4EB0-BD0C-A9524D7F8A7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sminch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"/>
          <p:cNvSpPr/>
          <p:nvPr/>
        </p:nvSpPr>
        <p:spPr>
          <a:xfrm>
            <a:off x="3881520" y="8686800"/>
            <a:ext cx="29700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7383647A-DEF5-4CF2-8AAE-4B99BB4414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sminch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-230040" y="-343080"/>
            <a:ext cx="7315200" cy="54882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ясь в некоторой среде общения – семье, образовательном учреждении, компании сверстников - ребенок как бы «заглатывает» те нормы и ценности, которые в этой среде главенствуют, а затем постепенно перерабатывает их, изменяя и приспосабливая к своим индивидуальным особенностям и жизненным целям. Но все очень не просто. Процессы «поглощения» и переработки социального опыта разнесены во времени. Есть целые этапы жизни, когда ребенок руководствуется в основном усвоенным, но не переработанным опытом. Живет чужим умом, сверхнормативен. А в другие периоды идет бурный процесс переработки, осмысления опыта, когда главным делом жизни становится жить не как все, быть непохожим на других. В конечном итоге, сложная спираль социально-психологического развития должна привести к социальной зрелости личности – состоянию гармонии типического и индивидуального в человеке. Но случается это не  так быстро, как говорится, и не всегда. Потому что история взаимоотношений человека с нормами в детстве и юности драматична, полна опасностей, преодолеть которые без помощи и поддержки удается далеко не всем. На каждом этапе можно выделить некоторые принципиально важные задачи для взрослых, работающих с детьми. От эффективности их решения зачастую зависит, пойдет ли дальнейшее развитие естественным и продуктивным рус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7A3D-212F-421D-AEB7-A8F135D95E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09C5-4B04-4BFA-9F6F-2E420F127EB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sminch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3881520" y="8686800"/>
            <a:ext cx="29700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21DB0115-9858-4EFA-9C12-3F9632DB1B7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sminch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-228600" y="-343080"/>
            <a:ext cx="7315200" cy="54882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5CEC-3A12-45E0-AB03-9313BFFEE41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sminch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3881520" y="8686800"/>
            <a:ext cx="29700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5B27701F-38F1-44AD-AB23-48B01126F1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sminch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93720"/>
            <a:ext cx="4565880" cy="3425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DF15-D3B9-454E-BDB9-910ECA64507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sminch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3881520" y="8686800"/>
            <a:ext cx="29700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65B3D49D-ED36-4F53-AECF-CA5B98150D8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sminch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-228600" y="-343080"/>
            <a:ext cx="7315200" cy="54882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7992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24AA-0A2D-4850-8AAC-E5DA806A9C2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7680" y="69372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спитание есть там, где сформирована система цен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7AC8-66E1-42EA-BEF0-E054AF0F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F8B4-6E15-43F6-B75A-7E8C5949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23FB-1351-41DD-ADAE-A0469A0D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9519-593D-4850-A20F-38856F526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BF60-F92F-4973-B81B-9A3FE967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F56A-A457-4655-BC83-B490273A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AECF-043E-4883-A028-B9F045B6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B519-C8DC-4C8F-A74B-38366BE7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C80B-0F8C-4EEF-9AEA-2A225964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FB73-66C2-419D-B06B-7FBECB04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45EE-9FD3-445E-ACD7-383441FE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669F-9723-4C37-A9BF-73834113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C222-9259-4D23-8D4E-AF732BBD3F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8120"/>
            <a:ext cx="851508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комплексный учебный курс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«Основы религиозных культур и светской эти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6" descr="sait.bmp"/>
          <p:cNvPicPr/>
          <p:nvPr/>
        </p:nvPicPr>
        <p:blipFill>
          <a:blip r:embed="rId1"/>
          <a:stretch/>
        </p:blipFill>
        <p:spPr>
          <a:xfrm>
            <a:off x="395280" y="0"/>
            <a:ext cx="8497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4358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ff0000"/>
                </a:solidFill>
                <a:uFillTx/>
                <a:latin typeface="Arial"/>
              </a:rPr>
              <a:t>Учебный модуль «Основы светской этики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ультура и  мора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равственность и её значение в жизни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аздники как одна из форм исторической памяти. Образцы нравственности в культурах разных наро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Государство и мораль граждан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бразцы нравственности в культуре Отечества. Трудовая мораль. Что значит быть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нравственным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в наше врем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ысшие нравственные ценности, идеалы, принципы морали. Методика создания морального кодекса в классе, школе. Нормы морали. Этикет. Образование как нравственная норма. Методы нравственного самосовершенств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5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0" lang="ru-RU" sz="2300" spc="-1" strike="noStrike">
                <a:solidFill>
                  <a:srgbClr val="002060"/>
                </a:solidFill>
                <a:latin typeface="Arial"/>
              </a:rPr>
              <a:t>Любовь и уважение к Отечеству. Патриотизм многонационального и многоконфессионального народа России.    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0" y="127080"/>
            <a:ext cx="563868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чему для изучения курса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КСЭ выбран этот возраст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0480">
              <a:lnSpc>
                <a:spcPct val="15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</a:rPr>
              <a:t>   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</a:rPr>
              <a:t>ребенок в этом возрасте наименее конфликте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30480">
              <a:lnSpc>
                <a:spcPct val="15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</a:rPr>
              <a:t>   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</a:rPr>
              <a:t>у детей появляется потребность в новом содержании, обращении к внутреннему миру челове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30480">
              <a:lnSpc>
                <a:spcPct val="15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</a:rPr>
              <a:t>   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</a:rPr>
              <a:t>у детей уже сформирована способность понимать смыслы на уровне понятий Добро, Совесть, Милосердие, Дружб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30480">
              <a:lnSpc>
                <a:spcPct val="15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</a:rPr>
              <a:t>   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</a:rPr>
              <a:t>в этом возрасте возникает потребность в примере, идеал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30480">
              <a:lnSpc>
                <a:spcPct val="15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</a:rPr>
              <a:t>   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</a:rPr>
              <a:t>ребенок «открывает» социальное  разнообразие внутри класс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638680" y="0"/>
            <a:ext cx="3276720" cy="18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://img-fotki.yandex.ru/get/22/olhovik-ru.3/0_bdc6_b09929b6_XL"/>
          <p:cNvPicPr/>
          <p:nvPr/>
        </p:nvPicPr>
        <p:blipFill>
          <a:blip r:embed="rId1"/>
          <a:stretch/>
        </p:blipFill>
        <p:spPr>
          <a:xfrm>
            <a:off x="5643720" y="1071720"/>
            <a:ext cx="3143160" cy="419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3" name="TextBox 7"/>
          <p:cNvSpPr/>
          <p:nvPr/>
        </p:nvSpPr>
        <p:spPr>
          <a:xfrm>
            <a:off x="571680" y="5500800"/>
            <a:ext cx="2286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876240" y="5805360"/>
            <a:ext cx="2286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714240" y="5429160"/>
            <a:ext cx="3214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Дошкольни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1"/>
          <p:cNvSpPr/>
          <p:nvPr/>
        </p:nvSpPr>
        <p:spPr>
          <a:xfrm>
            <a:off x="2057400" y="4286160"/>
            <a:ext cx="35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Младший школьни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2"/>
          <p:cNvSpPr/>
          <p:nvPr/>
        </p:nvSpPr>
        <p:spPr>
          <a:xfrm>
            <a:off x="0" y="2857680"/>
            <a:ext cx="3571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ладший</a:t>
            </a:r>
            <a:r>
              <a:rPr b="1" lang="ru-RU" sz="27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росто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3"/>
          <p:cNvSpPr/>
          <p:nvPr/>
        </p:nvSpPr>
        <p:spPr>
          <a:xfrm>
            <a:off x="2057400" y="1371600"/>
            <a:ext cx="3657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рший подросто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214200" y="214200"/>
            <a:ext cx="3595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ршеклассни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Выгнутая вправо стрелка 17"/>
          <p:cNvSpPr/>
          <p:nvPr/>
        </p:nvSpPr>
        <p:spPr>
          <a:xfrm rot="9999600">
            <a:off x="180720" y="3485880"/>
            <a:ext cx="1352520" cy="1720800"/>
          </a:xfrm>
          <a:custGeom>
            <a:avLst/>
            <a:gdLst>
              <a:gd name="textAreaLeft" fmla="*/ 181080 w 1352520"/>
              <a:gd name="textAreaRight" fmla="*/ 1171440 w 1352520"/>
              <a:gd name="textAreaTop" fmla="*/ 303120 h 1720800"/>
              <a:gd name="textAreaBottom" fmla="*/ 1248480 h 172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17" stAng="-5400000" swAng="5400000"/>
                <a:lnTo>
                  <a:pt x="21600" y="11862"/>
                </a:lnTo>
                <a:arcTo wR="21600" hR="7617" stAng="0" swAng="3227218"/>
                <a:lnTo>
                  <a:pt x="5400" y="21358"/>
                </a:lnTo>
                <a:lnTo>
                  <a:pt x="0" y="17356"/>
                </a:lnTo>
                <a:lnTo>
                  <a:pt x="5400" y="12869"/>
                </a:lnTo>
                <a:lnTo>
                  <a:pt x="5400" y="14991"/>
                </a:lnTo>
                <a:arcTo wR="21600" hR="7617" stAng="3227218" swAng="-2876698"/>
                <a:lnTo>
                  <a:pt x="20744" y="9739"/>
                </a:lnTo>
                <a:arcTo wR="21600" hR="7617" stAng="-350520" swAng="-5049480"/>
                <a:close/>
              </a:path>
              <a:path fill="darkenLess" w="21600" h="21600">
                <a:moveTo>
                  <a:pt x="0" y="0"/>
                </a:moveTo>
                <a:arcTo wR="21600" hR="7617" stAng="-5400000" swAng="5400000"/>
                <a:lnTo>
                  <a:pt x="21600" y="11862"/>
                </a:lnTo>
                <a:arcTo wR="21600" hR="7617" stAng="0" swAng="-350520"/>
                <a:lnTo>
                  <a:pt x="20744" y="9739"/>
                </a:lnTo>
                <a:arcTo wR="21600" hR="7617" stAng="-350520" swAng="-504948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Выгнутая влево стрелка 18"/>
          <p:cNvSpPr/>
          <p:nvPr/>
        </p:nvSpPr>
        <p:spPr>
          <a:xfrm rot="13663800">
            <a:off x="3804120" y="4898160"/>
            <a:ext cx="1371600" cy="20336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385920 h 2033640"/>
              <a:gd name="textAreaBottom" fmla="*/ 1500480 h 203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97" stAng="-5400000" swAng="-5400000"/>
                <a:lnTo>
                  <a:pt x="0" y="11839"/>
                </a:lnTo>
                <a:arcTo wR="21600" hR="8197" stAng="10800000" swAng="-3123550"/>
                <a:lnTo>
                  <a:pt x="15472" y="21263"/>
                </a:lnTo>
                <a:lnTo>
                  <a:pt x="21600" y="18215"/>
                </a:lnTo>
                <a:lnTo>
                  <a:pt x="15472" y="14493"/>
                </a:lnTo>
                <a:lnTo>
                  <a:pt x="15472" y="16057"/>
                </a:lnTo>
                <a:arcTo wR="21600" hR="8197" stAng="7676450" swAng="2827039"/>
                <a:lnTo>
                  <a:pt x="540" y="10018"/>
                </a:lnTo>
                <a:arcTo wR="21600" hR="8197" stAng="-10503489" swAng="5103489"/>
                <a:close/>
              </a:path>
              <a:path fill="darkenLess" w="21600" h="21600">
                <a:moveTo>
                  <a:pt x="21600" y="0"/>
                </a:moveTo>
                <a:arcTo wR="21600" hR="8197" stAng="-5400000" swAng="-5400000"/>
                <a:lnTo>
                  <a:pt x="0" y="8197"/>
                </a:lnTo>
                <a:arcTo wR="21600" hR="8197" stAng="10800000" swAng="-296511"/>
                <a:lnTo>
                  <a:pt x="540" y="10018"/>
                </a:lnTo>
                <a:arcTo wR="21600" hR="8197" stAng="-10503489" swAng="5103489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Выгнутая влево стрелка 21"/>
          <p:cNvSpPr/>
          <p:nvPr/>
        </p:nvSpPr>
        <p:spPr>
          <a:xfrm rot="13140000">
            <a:off x="3916080" y="1881360"/>
            <a:ext cx="1371600" cy="203328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385560 h 2033280"/>
              <a:gd name="textAreaBottom" fmla="*/ 1500480 h 203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97" stAng="-5400000" swAng="-5400000"/>
                <a:lnTo>
                  <a:pt x="0" y="11839"/>
                </a:lnTo>
                <a:arcTo wR="21600" hR="8197" stAng="10800000" swAng="-3123550"/>
                <a:lnTo>
                  <a:pt x="15472" y="21263"/>
                </a:lnTo>
                <a:lnTo>
                  <a:pt x="21600" y="18215"/>
                </a:lnTo>
                <a:lnTo>
                  <a:pt x="15472" y="14493"/>
                </a:lnTo>
                <a:lnTo>
                  <a:pt x="15472" y="16057"/>
                </a:lnTo>
                <a:arcTo wR="21600" hR="8197" stAng="7676450" swAng="2827039"/>
                <a:lnTo>
                  <a:pt x="540" y="10018"/>
                </a:lnTo>
                <a:arcTo wR="21600" hR="8197" stAng="-10503489" swAng="5103489"/>
                <a:close/>
              </a:path>
              <a:path fill="darkenLess" w="21600" h="21600">
                <a:moveTo>
                  <a:pt x="21600" y="0"/>
                </a:moveTo>
                <a:arcTo wR="21600" hR="8197" stAng="-5400000" swAng="-5400000"/>
                <a:lnTo>
                  <a:pt x="0" y="8197"/>
                </a:lnTo>
                <a:arcTo wR="21600" hR="8197" stAng="10800000" swAng="-296511"/>
                <a:lnTo>
                  <a:pt x="540" y="10018"/>
                </a:lnTo>
                <a:arcTo wR="21600" hR="8197" stAng="-10503489" swAng="5103489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Выгнутая вправо стрелка 22"/>
          <p:cNvSpPr/>
          <p:nvPr/>
        </p:nvSpPr>
        <p:spPr>
          <a:xfrm rot="9999600">
            <a:off x="561600" y="742680"/>
            <a:ext cx="1352520" cy="1720800"/>
          </a:xfrm>
          <a:custGeom>
            <a:avLst/>
            <a:gdLst>
              <a:gd name="textAreaLeft" fmla="*/ 181080 w 1352520"/>
              <a:gd name="textAreaRight" fmla="*/ 1171440 w 1352520"/>
              <a:gd name="textAreaTop" fmla="*/ 303120 h 1720800"/>
              <a:gd name="textAreaBottom" fmla="*/ 1248480 h 172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17" stAng="-5400000" swAng="5400000"/>
                <a:lnTo>
                  <a:pt x="21600" y="11862"/>
                </a:lnTo>
                <a:arcTo wR="21600" hR="7617" stAng="0" swAng="3227218"/>
                <a:lnTo>
                  <a:pt x="5400" y="21358"/>
                </a:lnTo>
                <a:lnTo>
                  <a:pt x="0" y="17356"/>
                </a:lnTo>
                <a:lnTo>
                  <a:pt x="5400" y="12869"/>
                </a:lnTo>
                <a:lnTo>
                  <a:pt x="5400" y="14991"/>
                </a:lnTo>
                <a:arcTo wR="21600" hR="7617" stAng="3227218" swAng="-2876698"/>
                <a:lnTo>
                  <a:pt x="20744" y="9739"/>
                </a:lnTo>
                <a:arcTo wR="21600" hR="7617" stAng="-350520" swAng="-5049480"/>
                <a:close/>
              </a:path>
              <a:path fill="darkenLess" w="21600" h="21600">
                <a:moveTo>
                  <a:pt x="0" y="0"/>
                </a:moveTo>
                <a:arcTo wR="21600" hR="7617" stAng="-5400000" swAng="5400000"/>
                <a:lnTo>
                  <a:pt x="21600" y="11862"/>
                </a:lnTo>
                <a:arcTo wR="21600" hR="7617" stAng="0" swAng="-350520"/>
                <a:lnTo>
                  <a:pt x="20744" y="9739"/>
                </a:lnTo>
                <a:arcTo wR="21600" hR="7617" stAng="-350520" swAng="-504948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никальность курса –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зможности взаимодействие ребенка, родителей и учителя, школы по жизненно важным вопроса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2361960"/>
            <a:ext cx="85345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такое человек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чем смысл жизни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чему надо следовать добру и избегать зла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ое значение в жизни человека имеет семья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правильно строить отношения с другими людьми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чему нравственная личность созидает, а безнравственная разрушает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ую значение имеет религия в жизни верующего человека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22860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 algn="just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Arial"/>
              <a:buChar char="•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222268"/>
                </a:solidFill>
                <a:latin typeface="Times New Roman"/>
              </a:rPr>
              <a:t>Информирование родителей о темах и заданиях, в выполнении которых ожидается помощь родителе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 algn="just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Arial"/>
              <a:buChar char="•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222268"/>
                </a:solidFill>
                <a:latin typeface="Times New Roman"/>
              </a:rPr>
              <a:t>Участие родителей в выполнении домашних заданий -  ответы на вопросы интервью, помощь в подборе иллюстративного материала к урокам, материала для галереи образов, рассказы о культовых местах, религиозных святынях, показ фотографий или видеофильмов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 algn="just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Arial"/>
              <a:buChar char="•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222268"/>
                </a:solidFill>
                <a:latin typeface="Times New Roman"/>
              </a:rPr>
              <a:t>Выступление членов семей с рассказами  о семейных традициях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 algn="just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Arial"/>
              <a:buChar char="•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222268"/>
                </a:solidFill>
                <a:latin typeface="Times New Roman"/>
              </a:rPr>
              <a:t>Участие и соавторство родителей и членов семьи в создании детских презентаций,  итоговых проектов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 algn="just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Arial"/>
              <a:buChar char="•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222268"/>
                </a:solidFill>
                <a:latin typeface="Times New Roman"/>
              </a:rPr>
              <a:t>Участие родителей подготовке  к внеурочным мероприятиям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 algn="just">
              <a:lnSpc>
                <a:spcPct val="90000"/>
              </a:lnSpc>
              <a:spcBef>
                <a:spcPts val="451"/>
              </a:spcBef>
              <a:buClr>
                <a:srgbClr val="222268"/>
              </a:buClr>
              <a:buFont typeface="Arial"/>
              <a:buChar char="•"/>
              <a:tabLst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222268"/>
                </a:solidFill>
                <a:latin typeface="Times New Roman"/>
              </a:rPr>
              <a:t>Формирование домашней библиотеки, организация домашнего чтения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26880"/>
                <a:tab algn="l" pos="431640"/>
                <a:tab algn="l" pos="880920"/>
                <a:tab algn="l" pos="1330200"/>
                <a:tab algn="l" pos="1779480"/>
                <a:tab algn="l" pos="2228760"/>
                <a:tab algn="l" pos="2678040"/>
                <a:tab algn="l" pos="3127320"/>
                <a:tab algn="l" pos="3576600"/>
                <a:tab algn="l" pos="4025880"/>
                <a:tab algn="l" pos="4475160"/>
                <a:tab algn="l" pos="4924440"/>
                <a:tab algn="l" pos="5373720"/>
                <a:tab algn="l" pos="5823000"/>
                <a:tab algn="l" pos="6272280"/>
                <a:tab algn="l" pos="6721560"/>
                <a:tab algn="l" pos="7170840"/>
                <a:tab algn="l" pos="7620120"/>
                <a:tab algn="l" pos="8069400"/>
                <a:tab algn="l" pos="8518680"/>
                <a:tab algn="l" pos="896796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152280" y="0"/>
            <a:ext cx="868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Формы взаимодействия семьи и школы </a:t>
            </a:r>
            <a:br>
              <a:rPr sz="3400"/>
            </a:br>
            <a:r>
              <a:rPr b="1" lang="ru-RU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 рамках изучения курса ОРКСЭ</a:t>
            </a:r>
            <a:r>
              <a:rPr b="1" lang="ru-RU" sz="3400" spc="-1" strike="noStrike">
                <a:solidFill>
                  <a:srgbClr val="f57900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457200" y="189000"/>
            <a:ext cx="822636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ы «семейных» домашних заданий по курсу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228600" y="762120"/>
            <a:ext cx="876312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343080" indent="-3384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2060"/>
                </a:solidFill>
                <a:latin typeface="Times New Roman"/>
              </a:rPr>
              <a:t>Обсуждение вопрос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Каковы духовные, нравственные ценности нашей семьи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Какие друзья у вас были в детстве, как вы дружили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Какой человек для вас в жизни является примером?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риходилось ли вам оказываться в ситуации морального выбора?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Быть справедливым трудно?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2060"/>
                </a:solidFill>
                <a:latin typeface="Times New Roman"/>
              </a:rPr>
              <a:t>Подготовка фотографий, фотовыставки, альбом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2500" spc="-1" strike="noStrike">
                <a:solidFill>
                  <a:srgbClr val="002060"/>
                </a:solidFill>
                <a:latin typeface="Times New Roman"/>
              </a:rPr>
              <a:t>Обсуждение семейных правил, обязанностей, праздников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93000"/>
              </a:lnSpc>
              <a:spcAft>
                <a:spcPts val="1426"/>
              </a:spcAft>
              <a:buClr>
                <a:srgbClr val="002060"/>
              </a:buClr>
              <a:buFont typeface="Wingdings" charset="2"/>
              <a:buChar char="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2060"/>
                </a:solidFill>
                <a:latin typeface="Times New Roman"/>
              </a:rPr>
              <a:t>Высказать свое отношение к суждению о добре, зле, справедливости, совести, милосердии и т.д</a:t>
            </a:r>
            <a:r>
              <a:rPr b="0" lang="ru-RU" sz="25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ценивание по курсу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" y="68580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оответствии с п.10 ст.28 Закона "Об образовании в Российской Федерации осуществление текущего контроля успеваемости и промежуточной аттестации обучающихся, установление их форм, периодичности и порядка проведения  - это компетенция, права, обязанности и ответственность образовательной организаци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курсу ОРСКЭ рекомендуется </a:t>
            </a:r>
            <a:r>
              <a:rPr b="1" i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зотметочное оценивание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формализованные требования по оценке успеваемости по результатам освоения курса не предусматриваются. Результаты подготовки и защиты творческих продуктов и проектов учитываются при формировании портфолио учеников (проекты, дипломы за конкурсы, сертификаты за достижения, , грамоты, благодарности и т.д.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Организация свободного добровольного информированного выбора родителями одного из модулей  курса ОРКСЭ для изучения их детьм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Arial"/>
              </a:rPr>
              <a:t>Общее родительское собрание третьеклассников: представление информации о целях и задачах курса,  знакомство с учителями по каждому модулю курса, представление учебников, содержания модуле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Arial"/>
              </a:rPr>
              <a:t>Раздача форм заявлени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Arial"/>
              </a:rPr>
              <a:t>Сбор заявлений, принятие решения о формировании групп по модулям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Arial"/>
              </a:rPr>
              <a:t>Заказ недостающих учебник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Arial"/>
              </a:rPr>
              <a:t>Приглашение родителей третьих классов (по желанию) на открытые занятия в четвертых классах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457200" y="357120"/>
            <a:ext cx="82296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0000"/>
                </a:solidFill>
                <a:latin typeface="Arial"/>
              </a:rPr>
              <a:t>Брошюра для родителе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179280" y="1020600"/>
            <a:ext cx="878544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Arial"/>
              </a:rPr>
              <a:t>Содержание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Arial"/>
              </a:rPr>
              <a:t>Глава 1.</a:t>
            </a:r>
            <a:r>
              <a:rPr b="0" lang="ru-RU" sz="2500" spc="-1" strike="noStrike">
                <a:solidFill>
                  <a:srgbClr val="002060"/>
                </a:solidFill>
                <a:latin typeface="Arial"/>
              </a:rPr>
              <a:t> Мифы, которые сопровождают подготовку федерального эксперимент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Arial"/>
              </a:rPr>
              <a:t>Глава 2.</a:t>
            </a:r>
            <a:r>
              <a:rPr b="0" lang="ru-RU" sz="2500" spc="-1" strike="noStrike">
                <a:solidFill>
                  <a:srgbClr val="002060"/>
                </a:solidFill>
                <a:latin typeface="Arial"/>
              </a:rPr>
              <a:t> Ваш ребенок – младший подросток. С какими трудностями он столкнется при переходе из младшей школы в основную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Arial"/>
              </a:rPr>
              <a:t>Глава 3.</a:t>
            </a:r>
            <a:r>
              <a:rPr b="0" lang="ru-RU" sz="2500" spc="-1" strike="noStrike">
                <a:solidFill>
                  <a:srgbClr val="002060"/>
                </a:solidFill>
                <a:latin typeface="Arial"/>
              </a:rPr>
              <a:t> Зачем в школе вводится предмет «Основы религиозных культур и светской этики»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Arial"/>
              </a:rPr>
              <a:t>Глава 4.</a:t>
            </a:r>
            <a:r>
              <a:rPr b="0" lang="ru-RU" sz="2500" spc="-1" strike="noStrike">
                <a:solidFill>
                  <a:srgbClr val="002060"/>
                </a:solidFill>
                <a:latin typeface="Arial"/>
              </a:rPr>
              <a:t> Как будет организовано преподавание нового предмета и взаимодействие школы с семьей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Arial"/>
              </a:rPr>
              <a:t>Глава 5.</a:t>
            </a:r>
            <a:r>
              <a:rPr b="0" lang="ru-RU" sz="2500" spc="-1" strike="noStrike">
                <a:solidFill>
                  <a:srgbClr val="002060"/>
                </a:solidFill>
                <a:latin typeface="Arial"/>
              </a:rPr>
              <a:t> Что будут изучать Ваши дети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Arial"/>
              </a:rPr>
              <a:t>Глава 6.</a:t>
            </a:r>
            <a:r>
              <a:rPr b="0" lang="ru-RU" sz="2500" spc="-1" strike="noStrike">
                <a:solidFill>
                  <a:srgbClr val="002060"/>
                </a:solidFill>
                <a:latin typeface="Arial"/>
              </a:rPr>
              <a:t> Практические советы о том, как Вы можете помочь своему ребенку в изучении предмета «Основы религиозных культур и светской этики»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4 класс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– предмет «Основы религиозных культур и светской этики» .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выбору родителей изучается один из шести модулей: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сновы православной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сновы исламской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сновы буддийской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сновы иудейской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сновы мировых религиозных куль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сновы светской э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сновные ценности курса: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ечество, культура, семья, религия, этика, духовность, патриот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В каждой семье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- свои традиции, религиозные и другие предпочтения. Школа их учитыв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rcRect l="1985" t="1985" r="1985" b="1985"/>
          <a:stretch/>
        </p:blipFill>
        <p:spPr>
          <a:xfrm>
            <a:off x="6553080" y="990720"/>
            <a:ext cx="2590920" cy="213336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и курса «Основы религиозных культур и светской этики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товность к нравственному самосовершенствованию, духовному саморазвитию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накомство с осн. нормами светской и религ. морали, понимание их значения в выстраивании конструкт. отн. в семье и обществе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нимание значения нравственности, веры и религии в жизни человека и обществ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ние первоначальных представлений о светской этике, о традиционных религиях, их роли в культуре, истории и соврем России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воначальные представления об истор. роли традиционных религий в становлении российской государственности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ановление внутренней установки личности поступать по своей совести; воспитание нравственности, основанной на свободе совести и вероисповедания, духовн. традициях народов России; осознание ценности человеческой жизн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Учебный курс ОРКСЭ единая комплексная учебно-воспитательная систем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100000"/>
              </a:lnSpc>
              <a:spcBef>
                <a:spcPts val="624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 6 модулей курса разработаны на единой методической основ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just">
              <a:lnSpc>
                <a:spcPct val="100000"/>
              </a:lnSpc>
              <a:spcBef>
                <a:spcPts val="624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 модули курса согласуются между собой по педагогическим целям, задачам, требованиям к результатам освоения учебного содержания, находясь в системе содержательных, понятийных, ценностно-смысловых связей с другими гуманитарными предметами начальной и основной школы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820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ультуроведческое содержание курса «Основы религиозных культур и светской этики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79280" y="1066680"/>
            <a:ext cx="4316400" cy="560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ультура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возделывание себя и мира, пространства поиска смыслов, ценностного поля, в котором существуют люди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лигия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связь, восоединение верующего с Богом. Вера как образ особой духовной жизни, открывающей человеку мир Божественной красоты, скрытый в душе человеческо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1640" y="1066680"/>
            <a:ext cx="4321080" cy="560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txBody>
          <a:bodyPr anchor="ctr">
            <a:normAutofit/>
          </a:bodyPr>
          <a:p>
            <a:pPr marL="90360" indent="-9036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ика преподавания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алог, обсуждение,  понимание, переживание  ценностей культуры, знаков и символов мира, жизненного пути человека в пространстве культурного сценария, личной биографии, социальной реальности и историческом пространстве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228240"/>
            <a:ext cx="8435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ff0000"/>
                </a:solidFill>
                <a:uFillTx/>
                <a:latin typeface="Arial"/>
              </a:rPr>
              <a:t>Учебный модуль «Основы иудейской культуры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920" y="838080"/>
            <a:ext cx="861048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ведение в иудейскую духовную традицию. Культура и религия. Тора - главная книга иудаизма. Классические тексты иудаизма. Патриархи еврейского народа. Пророки и праведники в иудейской культуре. Храм в жизни иудеев. Назначение синагоги и её устройство. Суббота (Шабат) в иудейской традиции. Иудаизм в России. Традиции иудаизма в повседневной жизни евреев. Ответственное принятие заповедей. Еврейский дом. Знакомство с еврейским календарём: его устройство и особенности. Еврейские праздники: их история и традиции. Ценности семейной жизни в иудейской традиции.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юбовь и уважение к Отечеству. Патриотизм многонационального и многоконфессионального народа России. 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152280"/>
            <a:ext cx="8435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ff0000"/>
                </a:solidFill>
                <a:uFillTx/>
                <a:latin typeface="Arial"/>
              </a:rPr>
              <a:t>Учебный модуль «Основы буддийской культуры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990720"/>
            <a:ext cx="91440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Arial"/>
              </a:rPr>
              <a:t>Введение в буддийскую духовную традицию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Arial"/>
              </a:rPr>
              <a:t>Культура и религия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Arial"/>
              </a:rPr>
              <a:t>Будда и его учение. Буддийские святые. Будды. Семья в буддийской культуре и её ценности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Arial"/>
              </a:rPr>
              <a:t>Буддизм в России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Arial"/>
              </a:rPr>
              <a:t>Человек в буддийской картине мира. Буддийские символы. Буддийские ритуалы. Буддийские святыни. Буддийские священные сооружения. Буддийский храм. Буддийский календарь. Праздники в буддийской культуре. Искусство в буддийской культуре.     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2060"/>
                </a:solidFill>
                <a:latin typeface="Arial"/>
              </a:rPr>
              <a:t>Любовь и уважение к Отечеству. Патриотизм многонационального и многоконфессионального народа России.    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ff0000"/>
                </a:solidFill>
                <a:uFillTx/>
                <a:latin typeface="Arial"/>
              </a:rPr>
              <a:t>Учебный модуль «Основы православной культуры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Arial"/>
              </a:rPr>
              <a:t>Введение в православную духовную традицию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Arial"/>
              </a:rPr>
              <a:t>Культура и религия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Arial"/>
              </a:rPr>
              <a:t>Добро и зло в православной традиции. </a:t>
            </a:r>
            <a:r>
              <a:rPr b="0" i="1" lang="ru-RU" sz="2500" spc="-1" strike="noStrike">
                <a:solidFill>
                  <a:srgbClr val="002060"/>
                </a:solidFill>
                <a:latin typeface="Arial"/>
              </a:rPr>
              <a:t>Золотое правило</a:t>
            </a:r>
            <a:r>
              <a:rPr b="0" lang="ru-RU" sz="2500" spc="-1" strike="noStrike">
                <a:solidFill>
                  <a:srgbClr val="002060"/>
                </a:solidFill>
                <a:latin typeface="Arial"/>
              </a:rPr>
              <a:t> нравственности. Любовь к ближнему. Отношение к труду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Arial"/>
              </a:rPr>
              <a:t>Долг и ответственность. Милосердие и сострадание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Arial"/>
              </a:rPr>
              <a:t>Православие в России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Arial"/>
              </a:rPr>
              <a:t>Православный храм и другие святыни. Символический язык православной культуры: христианское искусство (иконы, фрески, церковное пение, прикладное искусство), православный календарь. Праздники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Arial"/>
              </a:rPr>
              <a:t>Христианская семья и её ценнос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Arial"/>
              </a:rPr>
              <a:t>Любовь и уважение к Отечеству. Патриотизм многонационального и многоконфессионального народа России.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228240"/>
            <a:ext cx="8435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ff0000"/>
                </a:solidFill>
                <a:uFillTx/>
                <a:latin typeface="Arial"/>
              </a:rPr>
              <a:t>Учебный модуль «Основы исламской культуры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9140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Arial"/>
              </a:rPr>
              <a:t>Введение в исламскую духовную традицию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Arial"/>
              </a:rPr>
              <a:t>Культура и религия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Arial"/>
              </a:rPr>
              <a:t>Пророк Мухаммад - образец человека и учитель нравственности в исламской традиции. Столпы ислама и исламской этики. Обязанности мусульман. Для чего построена и как устроена мечеть. Мусульманское летоисчисление и календарь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Arial"/>
              </a:rPr>
              <a:t>Ислам в России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Arial"/>
              </a:rPr>
              <a:t>Семья в исламе. Нравственные ценности ислама. Праздники исламских народов России: их происхождение и особенности проведения. Искусство ислама.  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2060"/>
                </a:solidFill>
                <a:latin typeface="Arial"/>
              </a:rPr>
              <a:t>Любовь и уважение к Отечеству. Патриотизм многонационального и многоконфессионального народа России.    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Яша</cp:lastModifiedBy>
  <dcterms:modified xsi:type="dcterms:W3CDTF">2025-02-04T15:26:39Z</dcterms:modified>
  <cp:revision>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